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E37-ABE2-4D5C-A6FC-14A22991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A43-CE7E-4C4A-820B-CD7EF5E1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F9E-BFA0-41D9-9FB1-1A26F375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2AD-863C-4E53-B8D4-69ED121B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151E-AC4D-4A98-AD3F-10F8BC9D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D01B-3524-4EF8-A159-B4D1F963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FEDF-14BD-4E65-A808-87A3CCDB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74E4-8B01-40D6-9FB7-85FA6411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1794-E9BF-4110-9B11-FAAFD87F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A393-3E59-48DF-A4B0-16CE2390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A6CB-9990-4184-A439-D9E97670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3137-40AD-4D8D-A7EC-746E65E4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0723-D6FB-4C4B-9805-F4C29914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4084-0820-4FEE-891E-1D272D55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9343-2E56-41BB-9834-3966927E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823B-55B7-416B-87CD-08CB54F5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C514-1355-4DF3-87A7-E26C6109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726-2557-48F1-9C63-33A056C8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F54-0CEE-4078-AA98-CC86A4F2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3FF-25D3-4D1A-BB18-BFA8E9BD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189-3D99-41A6-9B40-05691460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23A-FE37-4C82-ADE1-E97600B9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8A4-91B8-46F7-A7B5-6A70A89B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C09-2C39-4C5C-9D90-3B8862F4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95D9-0BEC-4A78-9132-5632D0CE83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870E-9CCF-4FF6-8AF8-09060C8596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8520120" cy="27036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omic Sans MS"/>
              </a:rPr>
              <a:t>Квадратные уравнения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omic Sans MS"/>
              </a:rPr>
              <a:t>или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omic Sans MS"/>
              </a:rPr>
              <a:t>«Чем больше знаешь, тем быстрей считаешь»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Теорема Виет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9360">
            <a:solidFill>
              <a:srgbClr val="ffb8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х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+ рх +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=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-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 •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=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q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611280" y="2205000"/>
          <a:ext cx="7561080" cy="3006720"/>
        </p:xfrm>
        <a:graphic>
          <a:graphicData uri="http://schemas.openxmlformats.org/drawingml/2006/table">
            <a:tbl>
              <a:tblPr/>
              <a:tblGrid>
                <a:gridCol w="2011320"/>
                <a:gridCol w="596880"/>
                <a:gridCol w="395280"/>
                <a:gridCol w="512640"/>
                <a:gridCol w="585720"/>
                <a:gridCol w="587520"/>
                <a:gridCol w="878040"/>
                <a:gridCol w="1100160"/>
                <a:gridCol w="89352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х</a:t>
                      </a:r>
                      <a:r>
                        <a:rPr b="0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х</a:t>
                      </a:r>
                      <a:r>
                        <a:rPr b="0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х</a:t>
                      </a:r>
                      <a:r>
                        <a:rPr b="0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х=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=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5=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=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х+21=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WordArt 291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ак поняли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16" name="Group 296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17" name="Tree"/>
            <p:cNvSpPr/>
            <p:nvPr/>
          </p:nvSpPr>
          <p:spPr>
            <a:xfrm>
              <a:off x="5796000" y="5877000"/>
              <a:ext cx="934920" cy="7300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Text Box 295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1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Вспомнить все!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39640" y="1484280"/>
            <a:ext cx="828036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ждой паре предлагается ответить на следующие вопросы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Определение квадратного уравнения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Виды квадратных уравнений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Что называется дискриминантом квадратного уравнения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 От чего зависит количество корней квадратного уравнения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 Каковы формулы для нахождения корней квадратного уравнения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. Формулировка теоремы Виета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1" name="Group 6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22" name="Tree"/>
            <p:cNvSpPr/>
            <p:nvPr/>
          </p:nvSpPr>
          <p:spPr>
            <a:xfrm>
              <a:off x="5796000" y="5877000"/>
              <a:ext cx="934920" cy="7300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Text Box 8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1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7696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ачи на квадратные уравнения встречаются в труда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дийских математиков уже с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ка нашей эры. Вот од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 задач индийского математик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II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ка Бхаска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езьянок резвых ста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ласть поевши, развлекалас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х в квадрате часть восьма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поляне забавлялас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двенадцать по лианам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ли прыгать, повисая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лько ж было обезьянок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 скажите, в этой ста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547640" y="17002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WordArt 9"/>
          <p:cNvSpPr txBox="1"/>
          <p:nvPr/>
        </p:nvSpPr>
        <p:spPr>
          <a:xfrm>
            <a:off x="611280" y="260280"/>
            <a:ext cx="66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Письмо из прошлого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7" name="Group 11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28" name="Tree"/>
            <p:cNvSpPr/>
            <p:nvPr/>
          </p:nvSpPr>
          <p:spPr>
            <a:xfrm>
              <a:off x="5796000" y="5877000"/>
              <a:ext cx="934920" cy="7300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1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Эрудит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21142" t="32259" r="17576" b="23900"/>
          <a:stretch/>
        </p:blipFill>
        <p:spPr>
          <a:xfrm>
            <a:off x="395280" y="1415880"/>
            <a:ext cx="7993080" cy="41418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6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33" name="Tree"/>
            <p:cNvSpPr/>
            <p:nvPr/>
          </p:nvSpPr>
          <p:spPr>
            <a:xfrm>
              <a:off x="5796000" y="5877000"/>
              <a:ext cx="934920" cy="7300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Text Box 8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1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WordArt 4"/>
          <p:cNvSpPr txBox="1"/>
          <p:nvPr/>
        </p:nvSpPr>
        <p:spPr>
          <a:xfrm>
            <a:off x="971640" y="2997360"/>
            <a:ext cx="720072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Дидактические 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Формирование навыков работы в групп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Приобретение навыков самостоятельной работы с большим объемом информ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Формирование умений увидеть проблему и наметить пути ее реш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Формирование умений составлять алгоритмы для способов реш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Формирование выбора рационального  способа решения квадратных  уравне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Формирование умений решать квадратное уравнение не одним способо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Основополагающий вопрос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праве  ли мы считать любое открытие в науке чудесным проявлением  неограниченных возможностей человеческого познания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Проблемные вопрос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вадратные уравнения: случайное явление или необходимая закономерность в  истории развития алгебры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жет ли квадратное уравнение стать  математической моделью практической задач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сколько далеко простираются возможности квадратных уравнений в математи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х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+вх+с =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в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эффици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торо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эффици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ободный чл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0" name="AutoShape 5"/>
          <p:cNvCxnSpPr>
            <a:stCxn id="159" idx="1"/>
          </p:cNvCxnSpPr>
          <p:nvPr/>
        </p:nvCxnSpPr>
        <p:spPr>
          <a:xfrm>
            <a:off x="685800" y="36576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AutoShape 17"/>
          <p:cNvSpPr/>
          <p:nvPr/>
        </p:nvSpPr>
        <p:spPr>
          <a:xfrm>
            <a:off x="2916360" y="1628640"/>
            <a:ext cx="287280" cy="976320"/>
          </a:xfrm>
          <a:prstGeom prst="downArrow">
            <a:avLst>
              <a:gd name="adj1" fmla="val 50000"/>
              <a:gd name="adj2" fmla="val 8496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18"/>
          <p:cNvSpPr/>
          <p:nvPr/>
        </p:nvSpPr>
        <p:spPr>
          <a:xfrm>
            <a:off x="4140360" y="1700280"/>
            <a:ext cx="288720" cy="1584360"/>
          </a:xfrm>
          <a:prstGeom prst="downArrow">
            <a:avLst>
              <a:gd name="adj1" fmla="val 50000"/>
              <a:gd name="adj2" fmla="val 13718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19"/>
          <p:cNvSpPr/>
          <p:nvPr/>
        </p:nvSpPr>
        <p:spPr>
          <a:xfrm>
            <a:off x="5148360" y="1700280"/>
            <a:ext cx="288720" cy="2016000"/>
          </a:xfrm>
          <a:prstGeom prst="downArrow">
            <a:avLst>
              <a:gd name="adj1" fmla="val 50000"/>
              <a:gd name="adj2" fmla="val 17456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Oval 42"/>
          <p:cNvSpPr/>
          <p:nvPr/>
        </p:nvSpPr>
        <p:spPr>
          <a:xfrm>
            <a:off x="250920" y="3933720"/>
            <a:ext cx="3313080" cy="1368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626436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ИДЫ КВАДРАТНЫХ УРАВНЕН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2521080" y="2624040"/>
                <a:ext cx="1062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2521080" y="4514760"/>
                <a:ext cx="1062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763560" y="4005360"/>
                <a:ext cx="1952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Oval 6"/>
          <p:cNvSpPr/>
          <p:nvPr/>
        </p:nvSpPr>
        <p:spPr>
          <a:xfrm>
            <a:off x="3492360" y="1341360"/>
            <a:ext cx="2737080" cy="1152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75564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Object 12"/>
          <p:cNvGraphicFramePr/>
          <p:nvPr/>
        </p:nvGraphicFramePr>
        <p:xfrm>
          <a:off x="3635280" y="1700280"/>
          <a:ext cx="239580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700280"/>
                    <a:ext cx="23958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40"/>
          <p:cNvGrpSpPr/>
          <p:nvPr/>
        </p:nvGrpSpPr>
        <p:grpSpPr>
          <a:xfrm>
            <a:off x="7164360" y="5877000"/>
            <a:ext cx="1441440" cy="649080"/>
            <a:chOff x="7164360" y="5877000"/>
            <a:chExt cx="1441440" cy="649080"/>
          </a:xfrm>
        </p:grpSpPr>
        <p:sp>
          <p:nvSpPr>
            <p:cNvPr id="176" name="Oval 35"/>
            <p:cNvSpPr/>
            <p:nvPr/>
          </p:nvSpPr>
          <p:spPr>
            <a:xfrm>
              <a:off x="7164360" y="5877000"/>
              <a:ext cx="1441440" cy="6490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Object 16"/>
                <p:cNvSpPr txBox="1"/>
                <p:nvPr/>
              </p:nvSpPr>
              <p:spPr>
                <a:xfrm>
                  <a:off x="7453080" y="6021360"/>
                  <a:ext cx="9352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Group 41"/>
          <p:cNvGrpSpPr/>
          <p:nvPr/>
        </p:nvGrpSpPr>
        <p:grpSpPr>
          <a:xfrm>
            <a:off x="5003640" y="5229360"/>
            <a:ext cx="2016000" cy="1080720"/>
            <a:chOff x="5003640" y="5229360"/>
            <a:chExt cx="2016000" cy="1080720"/>
          </a:xfrm>
        </p:grpSpPr>
        <p:sp>
          <p:nvSpPr>
            <p:cNvPr id="179" name="Oval 36"/>
            <p:cNvSpPr/>
            <p:nvPr/>
          </p:nvSpPr>
          <p:spPr>
            <a:xfrm>
              <a:off x="5003640" y="5229360"/>
              <a:ext cx="2016000" cy="1080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17"/>
                <p:cNvSpPr txBox="1"/>
                <p:nvPr/>
              </p:nvSpPr>
              <p:spPr>
                <a:xfrm>
                  <a:off x="5153400" y="5554080"/>
                  <a:ext cx="16423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1" name="Object 19"/>
              <p:cNvSpPr txBox="1"/>
              <p:nvPr/>
            </p:nvSpPr>
            <p:spPr>
              <a:xfrm>
                <a:off x="5508720" y="3573360"/>
                <a:ext cx="30668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Group 39"/>
          <p:cNvGrpSpPr/>
          <p:nvPr/>
        </p:nvGrpSpPr>
        <p:grpSpPr>
          <a:xfrm>
            <a:off x="6443640" y="4365720"/>
            <a:ext cx="2088720" cy="1008000"/>
            <a:chOff x="6443640" y="4365720"/>
            <a:chExt cx="2088720" cy="1008000"/>
          </a:xfrm>
        </p:grpSpPr>
        <p:sp>
          <p:nvSpPr>
            <p:cNvPr id="183" name="Oval 37"/>
            <p:cNvSpPr/>
            <p:nvPr/>
          </p:nvSpPr>
          <p:spPr>
            <a:xfrm>
              <a:off x="6443640" y="4365720"/>
              <a:ext cx="2088720" cy="100800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Object 20"/>
                <p:cNvSpPr txBox="1"/>
                <p:nvPr/>
              </p:nvSpPr>
              <p:spPr>
                <a:xfrm>
                  <a:off x="6766200" y="4653000"/>
                  <a:ext cx="15271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" name="AutoShape 21">
            <a:hlinkClick r:id="" action="ppaction://hlinkshowjump?jump=nextslide"/>
            <a:hlinkClick r:id="rId3"/>
          </p:cNvPr>
          <p:cNvSpPr/>
          <p:nvPr/>
        </p:nvSpPr>
        <p:spPr>
          <a:xfrm>
            <a:off x="324000" y="33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613080" y="40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7" name="Object 27"/>
          <p:cNvGraphicFramePr/>
          <p:nvPr/>
        </p:nvGraphicFramePr>
        <p:xfrm>
          <a:off x="468360" y="4365720"/>
          <a:ext cx="3024000" cy="76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" name="Object 2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4365720"/>
                    <a:ext cx="302400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30"/>
          <p:cNvSpPr/>
          <p:nvPr/>
        </p:nvSpPr>
        <p:spPr>
          <a:xfrm>
            <a:off x="2627280" y="1197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но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324000" y="3429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веден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6516720" y="3213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пол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1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Существует 10 способов решения кадратных уравнений, мы рассмотрим с Вами самые основ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деление квадратного двучлен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шение с помощью дискриминан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еорема Ви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еорема, обратная теореме Ви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рафический способ реше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друг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Oval 4"/>
          <p:cNvSpPr/>
          <p:nvPr/>
        </p:nvSpPr>
        <p:spPr>
          <a:xfrm>
            <a:off x="0" y="3068640"/>
            <a:ext cx="4284720" cy="216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65080" y="32130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&gt;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6" name="Object 6"/>
          <p:cNvGraphicFramePr/>
          <p:nvPr/>
        </p:nvGraphicFramePr>
        <p:xfrm>
          <a:off x="826920" y="4149720"/>
          <a:ext cx="23749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149720"/>
                    <a:ext cx="23749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8" name="Object 7"/>
              <p:cNvSpPr txBox="1"/>
              <p:nvPr/>
            </p:nvSpPr>
            <p:spPr>
              <a:xfrm>
                <a:off x="611280" y="3373560"/>
                <a:ext cx="3240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9" name="Group 25"/>
          <p:cNvGrpSpPr/>
          <p:nvPr/>
        </p:nvGrpSpPr>
        <p:grpSpPr>
          <a:xfrm>
            <a:off x="5580000" y="3429000"/>
            <a:ext cx="3097440" cy="1846440"/>
            <a:chOff x="5580000" y="3429000"/>
            <a:chExt cx="3097440" cy="1846440"/>
          </a:xfrm>
        </p:grpSpPr>
        <p:sp>
          <p:nvSpPr>
            <p:cNvPr id="200" name="Oval 9"/>
            <p:cNvSpPr/>
            <p:nvPr/>
          </p:nvSpPr>
          <p:spPr>
            <a:xfrm>
              <a:off x="5580000" y="3502080"/>
              <a:ext cx="3097440" cy="1773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Text Box 11"/>
            <p:cNvSpPr/>
            <p:nvPr/>
          </p:nvSpPr>
          <p:spPr>
            <a:xfrm>
              <a:off x="6804000" y="3429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=0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Object 12"/>
                <p:cNvSpPr txBox="1"/>
                <p:nvPr/>
              </p:nvSpPr>
              <p:spPr>
                <a:xfrm>
                  <a:off x="5867280" y="3646440"/>
                  <a:ext cx="2374920" cy="147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3" name="Group 19"/>
          <p:cNvGrpSpPr/>
          <p:nvPr/>
        </p:nvGrpSpPr>
        <p:grpSpPr>
          <a:xfrm>
            <a:off x="3419640" y="5345280"/>
            <a:ext cx="2571120" cy="1512720"/>
            <a:chOff x="3419640" y="5345280"/>
            <a:chExt cx="2571120" cy="1512720"/>
          </a:xfrm>
        </p:grpSpPr>
        <p:sp>
          <p:nvSpPr>
            <p:cNvPr id="204" name="Oval 16"/>
            <p:cNvSpPr/>
            <p:nvPr/>
          </p:nvSpPr>
          <p:spPr>
            <a:xfrm>
              <a:off x="3419640" y="5345280"/>
              <a:ext cx="2571120" cy="1512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17"/>
            <p:cNvSpPr/>
            <p:nvPr/>
          </p:nvSpPr>
          <p:spPr>
            <a:xfrm>
              <a:off x="4284360" y="5598000"/>
              <a:ext cx="103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&lt;0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Text Box 18"/>
            <p:cNvSpPr/>
            <p:nvPr/>
          </p:nvSpPr>
          <p:spPr>
            <a:xfrm>
              <a:off x="3733200" y="6102000"/>
              <a:ext cx="217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т  корней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Text Box 20"/>
          <p:cNvSpPr/>
          <p:nvPr/>
        </p:nvSpPr>
        <p:spPr>
          <a:xfrm>
            <a:off x="1116000" y="26028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ешение квадратного уравнения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8" name="Group 24"/>
          <p:cNvGrpSpPr/>
          <p:nvPr/>
        </p:nvGrpSpPr>
        <p:grpSpPr>
          <a:xfrm>
            <a:off x="2411280" y="765000"/>
            <a:ext cx="3529080" cy="1727280"/>
            <a:chOff x="2411280" y="765000"/>
            <a:chExt cx="3529080" cy="1727280"/>
          </a:xfrm>
        </p:grpSpPr>
        <p:sp>
          <p:nvSpPr>
            <p:cNvPr id="209" name="Oval 22"/>
            <p:cNvSpPr/>
            <p:nvPr/>
          </p:nvSpPr>
          <p:spPr>
            <a:xfrm>
              <a:off x="2411280" y="765000"/>
              <a:ext cx="3529080" cy="17272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10" name="Object 23"/>
            <p:cNvGraphicFramePr/>
            <p:nvPr/>
          </p:nvGraphicFramePr>
          <p:xfrm>
            <a:off x="2555640" y="1197000"/>
            <a:ext cx="3095640" cy="78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55640" y="1197000"/>
                      <a:ext cx="309564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7:47:00Z</dcterms:created>
  <dc:creator>user</dc:creator>
  <dc:description/>
  <dc:language>en-US</dc:language>
  <cp:lastModifiedBy>26544</cp:lastModifiedBy>
  <dcterms:modified xsi:type="dcterms:W3CDTF">2010-06-07T11:54:08Z</dcterms:modified>
  <cp:revision>45</cp:revision>
  <dc:subject/>
  <dc:title>Квадратные уравнения</dc:title>
</cp:coreProperties>
</file>